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FD9B8-B9E4-48D2-8367-2C4AD220B6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FBC2B-B861-46F2-9A90-4C793865E6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3729F-BF5E-4906-B0D7-942A097908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6B62C-7BC5-432E-967B-F265851032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21CDF-7A6C-4901-948E-5F405BC1A9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4133C-50C5-4695-80BE-BE052C5719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DE963-589B-45A3-8D89-3E0C17CA61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18E0E-3ADE-4D03-B78D-527631BEDF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8B8AD-7C46-4B05-9FD8-B10FD069B5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25352-798B-473D-866E-05E65292A1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67A1F-0F85-48D8-80BF-362B21EE40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6A88B-35D5-464D-849A-4B70D99C5E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858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499"/>
              </a:spcBef>
              <a:buClr>
                <a:srgbClr val="002b5d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499"/>
              </a:spcBef>
              <a:buClr>
                <a:srgbClr val="002b5d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39400">
              <a:spcBef>
                <a:spcPts val="499"/>
              </a:spcBef>
              <a:buClr>
                <a:srgbClr val="002b5d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775476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4266720" y="655272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32468F60-7A07-4D31-9D84-04AE5D34813E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99436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4160" y="1143000"/>
            <a:ext cx="281916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ogress NEO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16000" y="1346040"/>
          <a:ext cx="8445240" cy="7112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1346040"/>
                    <a:ext cx="8445240" cy="711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0:16:27Z</dcterms:created>
  <dc:creator>MDamms</dc:creator>
  <dc:description/>
  <dc:language>en-US</dc:language>
  <cp:lastModifiedBy>Jürgen Schmitz</cp:lastModifiedBy>
  <cp:lastPrinted>2003-07-02T13:24:00Z</cp:lastPrinted>
  <dcterms:modified xsi:type="dcterms:W3CDTF">2004-01-08T17:26:42Z</dcterms:modified>
  <cp:revision>96</cp:revision>
  <dc:subject/>
  <dc:title>No Slide Title</dc:title>
</cp:coreProperties>
</file>